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A364-867B-4800-86B5-DF8AB5784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559F-3B25-445A-8676-8606C1B37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615-363A-481F-B42E-AB77F355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4D9-12DF-4747-B206-81A358FA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401-E863-47A7-8686-62D9879F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F1C-BBA4-4DAF-A748-A94C9666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862F-A13B-41AB-94FB-A8B1604D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6D60-A93F-4DBA-B385-476A66E4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ADCC-A339-40F8-A4B3-3B3A63A1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2C5F-3315-4CD1-88B7-D9C543B3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CB5B-9B5A-484B-8E56-B8F4C706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5FAE-D7EB-49D0-AAD5-6BB24079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C93C-FFF5-43C8-9746-588D9FE2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A28-CA2A-4A3E-93FA-2ACC148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C97C-BC06-4B94-A42D-E49FBA3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28B-6B60-4B7F-8402-B776858D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6D06-FFE7-44C2-869C-057642D6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57A1-6571-4DD1-9007-47FC8278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9820-B3CE-46DE-A53D-337A7538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A468F-62D4-4C95-BB90-C666AB69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083B1-C6D3-4E4C-9F75-1B48153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9396E-9958-4A2B-B900-B0073F35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9A53C-A886-4B54-87D2-6D56FB0D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C5E2B-2CC9-4822-B662-7A37ED35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D55-A455-4694-B0CC-FB1F5DA2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A38B2-F350-4AEF-93D9-6B981748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1DDDA-0E77-4BE4-972B-16D41348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EF1AB-43B1-4FE9-8517-6DA39435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3BC82-BF93-42A7-BCFD-28844BA9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26CC2-57EA-4616-998F-2B3CAB7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22CFF-FE2C-4F73-A17D-5229AF67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3B2B5-FD71-4D74-9901-73A0BAAD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6875C-4002-44CF-87DE-7B9F7D9F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A82CF-A4CA-49D4-8A98-825539EF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2960C-0618-424A-9F54-A5227B97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AE2-1261-457A-82BB-8D67413F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67A2A-A418-4FD3-84B3-69F5BD9E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09E85-C7E5-460C-B49C-8ECA37DE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A2A0B-656B-413A-BE0E-A12B32CE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30E4B-87DA-4F0F-ADFC-47FF016E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BA4D2-78A2-4112-99F2-A3707D3A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49870-D5D8-4F49-A370-899828F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38900-1399-42EB-9313-E6BA3CA3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2C750-2A84-4F64-94FD-7BF038E2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F6F21-FA0D-4CA9-AF8E-DFFB1F87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9B6-3122-4E2F-921A-FB97C92F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8DA-6259-4113-930F-941A6828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C15-A97C-4DFB-AE2E-BE987E52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7CB-7ECF-4044-BB9A-8995AE1C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396-D5D0-4A1A-BA91-D9726CB3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05F4-2191-4AD1-856B-02CA532D1A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EEC8-3684-4B89-B2BC-DF1CCB2E1657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25A3-5B78-477E-90F8-B35C2ECEA1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CA6A-C690-47B6-AC9E-6EDDB25C44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ptodate.com/" TargetMode="External"/><Relationship Id="rId3" Type="http://schemas.openxmlformats.org/officeDocument/2006/relationships/hyperlink" Target="http://www.emedicine.medscape.com/" TargetMode="External"/><Relationship Id="rId4" Type="http://schemas.openxmlformats.org/officeDocument/2006/relationships/hyperlink" Target="http://www.emedicine.medscape.com/" TargetMode="External"/><Relationship Id="rId5" Type="http://schemas.openxmlformats.org/officeDocument/2006/relationships/hyperlink" Target="http://www.emedicine.medscape.com/" TargetMode="External"/><Relationship Id="rId6" Type="http://schemas.openxmlformats.org/officeDocument/2006/relationships/hyperlink" Target="http://www.emedicine.medscape.com/" TargetMode="External"/><Relationship Id="rId7" Type="http://schemas.openxmlformats.org/officeDocument/2006/relationships/hyperlink" Target="http://www.emedicine.medscape.com/" TargetMode="External"/><Relationship Id="rId8" Type="http://schemas.openxmlformats.org/officeDocument/2006/relationships/hyperlink" Target="http://www.emedicine.medscape.com/" TargetMode="External"/><Relationship Id="rId9" Type="http://schemas.openxmlformats.org/officeDocument/2006/relationships/hyperlink" Target="http://www.emedicine.medscape.com/" TargetMode="External"/><Relationship Id="rId10" Type="http://schemas.openxmlformats.org/officeDocument/2006/relationships/hyperlink" Target="http://www.emedicine.medscape.com/" TargetMode="External"/><Relationship Id="rId11" Type="http://schemas.openxmlformats.org/officeDocument/2006/relationships/hyperlink" Target="http://www.emedicine.medscape.com/" TargetMode="External"/><Relationship Id="rId12" Type="http://schemas.openxmlformats.org/officeDocument/2006/relationships/hyperlink" Target="http://www.emedicine.medscape.com/" TargetMode="External"/><Relationship Id="rId1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ebddc3"/>
                </a:solidFill>
                <a:latin typeface="Arial"/>
              </a:rPr>
              <a:t>CHILDHOOD ALOPECIA AND COMMON PEDIATRIC RASHES</a:t>
            </a:r>
            <a:endParaRPr b="0" lang="en-US" sz="53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 Ho, M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/25/10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nagen Effluvium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dden loss of the growing hairs (80% of normal scalp hairs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d by abnormal cessation of anagen pha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ir shafts taper and lose adhesion to the follicl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ommon after systemic chemotherap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most common cause of alopecia in child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of localized anagen effluviu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smooth patches of alopecia that can be located anywhe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thought to be multifactorial:                immunologic, genetic, environmen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Content Placeholder 5" descr="photo-0133.jpg"/>
          <p:cNvPicPr/>
          <p:nvPr/>
        </p:nvPicPr>
        <p:blipFill>
          <a:blip r:embed="rId1"/>
          <a:stretch/>
        </p:blipFill>
        <p:spPr>
          <a:xfrm>
            <a:off x="4495680" y="2590920"/>
            <a:ext cx="4397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4475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ues to diagnosi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inflammation and scaling in involved are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ce of short 3-6mm easily epilated hairs at the margins of the pat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tch-plaid pitting of the nai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opsy is usually not necessary to confirm the diagnosis, but may be needed in cases where the diagnosis is uncertai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3" name="Content Placeholder 4" descr="Exclamation_point_hairs.jpg"/>
          <p:cNvPicPr/>
          <p:nvPr/>
        </p:nvPicPr>
        <p:blipFill>
          <a:blip r:embed="rId1"/>
          <a:stretch/>
        </p:blipFill>
        <p:spPr>
          <a:xfrm>
            <a:off x="4844880" y="221148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523880"/>
            <a:ext cx="4419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/3 regress spontaneously within 6 month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most all will experience more than one episode of the diseas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tot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univers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ye abnormalities may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6" name="Content Placeholder 4" descr="alopeciaAreata_46373_lg.jpg"/>
          <p:cNvPicPr/>
          <p:nvPr/>
        </p:nvPicPr>
        <p:blipFill>
          <a:blip r:embed="rId1"/>
          <a:stretch/>
        </p:blipFill>
        <p:spPr>
          <a:xfrm>
            <a:off x="5029200" y="3951360"/>
            <a:ext cx="3863880" cy="2906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5029200" y="160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prognosis = young age, severe disease, duration of &gt;1 year, nail disease, atopy, involvement of peripheral scal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560" y="159984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patients require treat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to 80 percent of patients with alopecia areata that is limited and of less than one year's duration may expect spontaneous re-growth of hai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alesional/topical/systemic 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xidil 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thrali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hotrex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pical immunotherap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0" name="Content Placeholder 4" descr="alopecia_areata.jpg"/>
          <p:cNvPicPr/>
          <p:nvPr/>
        </p:nvPicPr>
        <p:blipFill>
          <a:blip r:embed="rId1"/>
          <a:stretch/>
        </p:blipFill>
        <p:spPr>
          <a:xfrm>
            <a:off x="5791320" y="1523880"/>
            <a:ext cx="2514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rrhexis Nodos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6761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pecia caused by hair shaft breakage due to damage to outer cortex of hair shaft and loss in structural suppor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used by physical trauma or chemical trau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gnosed under microscope: distal ends of hairs are frayed like a broom or hairs may have nodules like two brooms stuck togeth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s at any age as brittle, short hairs that are perceived as non-growing, hairs are easily broken on gentle pul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3" name="Content Placeholder 4" descr="trch.jpg"/>
          <p:cNvPicPr/>
          <p:nvPr/>
        </p:nvPicPr>
        <p:blipFill>
          <a:blip r:embed="rId1"/>
          <a:stretch/>
        </p:blipFill>
        <p:spPr>
          <a:xfrm>
            <a:off x="5562720" y="3581280"/>
            <a:ext cx="1055520" cy="3048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mmhair1.jpg"/>
          <p:cNvPicPr/>
          <p:nvPr/>
        </p:nvPicPr>
        <p:blipFill>
          <a:blip r:embed="rId2"/>
          <a:stretch/>
        </p:blipFill>
        <p:spPr>
          <a:xfrm>
            <a:off x="7086600" y="3505320"/>
            <a:ext cx="1055520" cy="3120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5105520" y="16002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limited pro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re-grows when the source of the damage is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Friction Alopec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mon on posterior scalp of infants where head rubs on pill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f limi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severe/long standing, think neglec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8" name="Picture 4" descr="369584498_8ecd4354c6.jpg"/>
          <p:cNvPicPr/>
          <p:nvPr/>
        </p:nvPicPr>
        <p:blipFill>
          <a:blip r:embed="rId1"/>
          <a:stretch/>
        </p:blipFill>
        <p:spPr>
          <a:xfrm>
            <a:off x="2590920" y="3657600"/>
            <a:ext cx="3524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action Alopec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560" y="1589040"/>
            <a:ext cx="419076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in young girls whose hairstyles maintain a tight pull on hair shaf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shaft fractures and follicular damag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ause permanent scarring alopecia if prolonged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Content Placeholder 6" descr="Traction_alopecia.jpg"/>
          <p:cNvPicPr/>
          <p:nvPr/>
        </p:nvPicPr>
        <p:blipFill>
          <a:blip r:embed="rId1"/>
          <a:stretch/>
        </p:blipFill>
        <p:spPr>
          <a:xfrm>
            <a:off x="4419720" y="2895480"/>
            <a:ext cx="44258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ontrollable urge to pull out ones own hai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n in school aged children and adolescents, mostly in adolescent females, but more common in boys under 6 y/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ten associated with other compulsive behavior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zarre patterns of hair los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4" name="Content Placeholder 4" descr="ht_hair_pulling_080310_mn.jpg"/>
          <p:cNvPicPr/>
          <p:nvPr/>
        </p:nvPicPr>
        <p:blipFill>
          <a:blip r:embed="rId1"/>
          <a:stretch/>
        </p:blipFill>
        <p:spPr>
          <a:xfrm>
            <a:off x="4495680" y="3352680"/>
            <a:ext cx="4337280" cy="3252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0" y="1676520"/>
            <a:ext cx="4267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rely the scalp,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eyebrows, and eyelashes are involv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15238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hair pluck, scalp biops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clues: short, broken-off hairs along the scalp with stubs of different length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ng from alopecia areata: patches of hair loss, hair shafts are anagen hairs that are difficult to remove, no nail abnormalitie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8" name="Content Placeholder 8" descr="trich.jpg"/>
          <p:cNvPicPr/>
          <p:nvPr/>
        </p:nvPicPr>
        <p:blipFill>
          <a:blip r:embed="rId1"/>
          <a:stretch/>
        </p:blipFill>
        <p:spPr>
          <a:xfrm>
            <a:off x="5105520" y="4191120"/>
            <a:ext cx="37972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4952880" y="16002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distinguished from habitual hair pulling, twisting, twirling, which usually occur at bedtimes/naptimes, and habit resolves by early school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hildhood Alopecia</a:t>
            </a:r>
            <a:endParaRPr b="0" lang="en-US" sz="6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occur in those with severe psychiatric diseas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cases are associated with situational stres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= referral to psychiatry, behavior modification +/-  clomipramine or fluoxetin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gnosis = initially reversible but may become permanent if the habit persist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5238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genital condition with absence or failure of formation of a localized area of scalp or sk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ely, lesions may be multiple or may involve the trunk or extremities, and may be associated with limb defects or other anomal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4" name="Content Placeholder 5" descr="Fig011.gif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05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800600" y="1676520"/>
            <a:ext cx="43434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jority involve only   the dermis and epiderm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589040"/>
            <a:ext cx="38102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birth, lesion consists of sharply circumscribed open weeping ulceration, or may be covered by thin hemorrhagic membrane or cru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ervative treatment  to prevent infection and injur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ling occurs over weeks to months, leaving smooth atrophic and hairless sca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8" name="Content Placeholder 4" descr="cutis.jpg"/>
          <p:cNvPicPr/>
          <p:nvPr/>
        </p:nvPicPr>
        <p:blipFill>
          <a:blip r:embed="rId1"/>
          <a:stretch/>
        </p:blipFill>
        <p:spPr>
          <a:xfrm>
            <a:off x="4572000" y="2590920"/>
            <a:ext cx="4421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447920"/>
            <a:ext cx="419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ble for &gt;50% of cases of hair loss in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gal infection weakens hair shaft causing breakage and results in multiple patches of partial alope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chophyton tonsurans is responsible for over 95% of scalp ringworm in 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 reasons, but infection is endemic among black school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Content Placeholder 4" descr="Tinea_Capitis-34.jpg"/>
          <p:cNvPicPr/>
          <p:nvPr/>
        </p:nvPicPr>
        <p:blipFill>
          <a:blip r:embed="rId1"/>
          <a:stretch/>
        </p:blipFill>
        <p:spPr>
          <a:xfrm>
            <a:off x="5105520" y="3733920"/>
            <a:ext cx="3581280" cy="2835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5029200" y="1523880"/>
            <a:ext cx="35053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sporum canis (dog/cat ringworm) can cause a few cases also, but there is no racial predilec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5238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resentations -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d erythema and scaling of scalp with partial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breakage at the scalp creating a salt and pepper appea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lar like tinea corpor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ema/edema/pustule formation, as the pustule ruptures the area weeps and golden crusts form like impti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ed up sca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5" name="Content Placeholder 6" descr="tineaCapitis_4067_lg.jpg"/>
          <p:cNvPicPr/>
          <p:nvPr/>
        </p:nvPicPr>
        <p:blipFill>
          <a:blip r:embed="rId1"/>
          <a:stretch/>
        </p:blipFill>
        <p:spPr>
          <a:xfrm>
            <a:off x="5181480" y="4183200"/>
            <a:ext cx="3581640" cy="26748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7"/>
          <p:cNvSpPr/>
          <p:nvPr/>
        </p:nvSpPr>
        <p:spPr>
          <a:xfrm>
            <a:off x="5105520" y="15238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mmon, kerions = intense inflammation causes formation of raised tender boggy plaques or masses studded with pustules that simulate absces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520" y="15235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x with KOH examination of infected hai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al culture of hair and sca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s lamp = M. audouinii and M. canis flouresce, but not T. tonsur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9" name="Content Placeholder 4" descr="197MIKE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340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6002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t with oral antifung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seofulvin 20mg/kg once daily x 6-8 wee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oconazole altern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antifungals: terbinafine, itraconazole, fluconazole 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use of selenium sulfide shampoo (2.5%) reduces spore formation and shedding, which can help minimize spre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Content Placeholder 4" descr="tinea-capitis-ringworm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30640" cy="3969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4724280" y="1676520"/>
            <a:ext cx="373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urrence is high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ommon Pediatric Rashes</a:t>
            </a:r>
            <a:endParaRPr b="0" lang="en-US" sz="6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67" name="Text Placeholder 12" descr=""/>
          <p:cNvPicPr/>
          <p:nvPr/>
        </p:nvPicPr>
        <p:blipFill>
          <a:blip r:embed="rId1"/>
          <a:stretch/>
        </p:blipFill>
        <p:spPr>
          <a:xfrm>
            <a:off x="4876920" y="3695760"/>
            <a:ext cx="3733560" cy="2817720"/>
          </a:xfrm>
          <a:prstGeom prst="rect">
            <a:avLst/>
          </a:prstGeom>
          <a:ln w="0">
            <a:noFill/>
          </a:ln>
        </p:spPr>
      </p:pic>
      <p:pic>
        <p:nvPicPr>
          <p:cNvPr id="268" name="Text Placeholder 12" descr=""/>
          <p:cNvPicPr/>
          <p:nvPr/>
        </p:nvPicPr>
        <p:blipFill>
          <a:blip r:embed="rId2"/>
          <a:stretch/>
        </p:blipFill>
        <p:spPr>
          <a:xfrm>
            <a:off x="228600" y="3711600"/>
            <a:ext cx="4191120" cy="2817720"/>
          </a:xfrm>
          <a:prstGeom prst="rect">
            <a:avLst/>
          </a:prstGeom>
          <a:ln w="0">
            <a:noFill/>
          </a:ln>
        </p:spPr>
      </p:pic>
      <p:pic>
        <p:nvPicPr>
          <p:cNvPr id="269" name="Text Placeholder 12" descr=""/>
          <p:cNvPicPr/>
          <p:nvPr/>
        </p:nvPicPr>
        <p:blipFill>
          <a:blip r:embed="rId3"/>
          <a:stretch/>
        </p:blipFill>
        <p:spPr>
          <a:xfrm>
            <a:off x="2209680" y="380880"/>
            <a:ext cx="4800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known as ecze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ronically recurrent, genetically influenced skin disord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evalence is highest among children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families with a history of allergic rhinitis or asthma, ~1/3 of the children are expected to develop atopic dermatit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patients with atopic dermatitis, 1/3 are expected to have a personal history of allergic rhinitis or asth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herited as an autosomal trait with multifactorial influences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ather - atopic dermatitis improves with warm and humid weather, worsens with cold and dry wea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ther external factors - dry skin, soaps, wool fabrics, foods, infectious agents produce pruritus in susceptible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Arial"/>
              </a:rPr>
              <a:t>TINEA CAPITIS, TRICHOTILLOMANIA, ALOPECIA AREATA, AND TELOGEN EFFLUVIUM ACCOUNT FOR &gt;95% OF CASES OF ALOPECIA IN CHILDREN.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cratching leads to acute and chronic changes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utely -&gt; erythema, scaling, vesicles, crusting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ronically -&gt; lichenification and pigmentary chang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04920" y="17521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tribution of the rash changes with age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fantile phase (birth - 3 years) – symmetrically distributed over scalp, forehead, cheeks, trunk, and extensor surfaces; spares diaper a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hildhood phase (4 - 10 years) – distributed over wrists, ankles, flexural surfaces of the extremities, ear creases, back of ne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olescent/adult phase – distributed over flexural creases of the neck and extremities, hands and fe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"/>
          <p:cNvSpPr/>
          <p:nvPr/>
        </p:nvSpPr>
        <p:spPr>
          <a:xfrm>
            <a:off x="9344160" y="-26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524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environmental irritant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scratching with: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ose-fitting cotton clothing; long sleeves and foot coverings may help in infant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tihistamines, especially at bedtim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mollients to prevent dry skin, liberal application at least BID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keep nails trimmed to prevent excoriation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increased disease activ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and medium –potency topical corticosteroids, BID application to worst areas and tapered ASAP, overuse – causes atrophy, loss of pigment, telangiectasias, stria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ce/groin – HC1% and 2.5%, desonide if seve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dy – triamcinolone 0.1%, use only on thick plaques for kids &lt;1y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al nonsteroidal calcineurin inhibitors - tacrolimus and pimecrolim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81240" y="1752480"/>
            <a:ext cx="4647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ypes of atopic dermatiti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mular eczema – coin shaped, red patches made up of tiny papules and vesicles located on extremities; difficult to tre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llicular eczema – follicular papules on trunk and extremities, usually occurs early in fla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" name="Text Placeholder 12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ication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ary bacterial inf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ed exudative patch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aused by GAS or S. aure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e and treat with oral antibiotics, warm compresses, and emoll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al mupirocin or bacitracin for localized, small, impetigo-like le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if failed oral therapy or widespread inf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zema herpetic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grouped 2-3mm diameter vesicles or crusts/ulcerations associated with high fever and worsening pruprit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x with viral culture, PCR, or DF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t and start IV Acyclovir immediately if susp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fection unresponsive to antibiotics should raise suspicion for eczema herpeticu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1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6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8" name="Text Placeholder 1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343400" cy="3206520"/>
          </a:xfrm>
          <a:prstGeom prst="rect">
            <a:avLst/>
          </a:prstGeom>
          <a:ln w="0">
            <a:noFill/>
          </a:ln>
        </p:spPr>
      </p:pic>
      <p:pic>
        <p:nvPicPr>
          <p:cNvPr id="289" name="Text Placeholder 12" descr=""/>
          <p:cNvPicPr/>
          <p:nvPr/>
        </p:nvPicPr>
        <p:blipFill>
          <a:blip r:embed="rId2"/>
          <a:stretch/>
        </p:blipFill>
        <p:spPr>
          <a:xfrm>
            <a:off x="5105520" y="46656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290" name="Text Placeholder 12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4081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eratosis Pilar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sults from retention of keratin in the follicular infundibulu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nign skin condition, but cosmetically displeasin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+ FH, AD inheritance with variable penetranc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emales more frequently affected than m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improves with age, but usually never goes awa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ifests as horny follicular papules and erythema on the upper arms, medial thighs, and chee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monly associated with atopic dermatitis, ichthyosis vulgaris, xeros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isturize with emollie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y combination of emollient and exfolian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94" name="Text Placeholder 1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353040" cy="3557520"/>
          </a:xfrm>
          <a:prstGeom prst="rect">
            <a:avLst/>
          </a:prstGeom>
          <a:ln w="0">
            <a:noFill/>
          </a:ln>
        </p:spPr>
      </p:pic>
      <p:pic>
        <p:nvPicPr>
          <p:cNvPr id="295" name="Text Placeholder 12" descr=""/>
          <p:cNvPicPr/>
          <p:nvPr/>
        </p:nvPicPr>
        <p:blipFill>
          <a:blip r:embed="rId2"/>
          <a:stretch/>
        </p:blipFill>
        <p:spPr>
          <a:xfrm>
            <a:off x="3124080" y="3962520"/>
            <a:ext cx="2895840" cy="2644560"/>
          </a:xfrm>
          <a:prstGeom prst="rect">
            <a:avLst/>
          </a:prstGeom>
          <a:ln w="0">
            <a:noFill/>
          </a:ln>
        </p:spPr>
      </p:pic>
      <p:pic>
        <p:nvPicPr>
          <p:cNvPr id="296" name="Text Placeholder 12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74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Normal Hair Cycle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9" name="Content Placeholder 6" descr=""/>
          <p:cNvPicPr/>
          <p:nvPr/>
        </p:nvPicPr>
        <p:blipFill>
          <a:blip r:embed="rId1"/>
          <a:stretch/>
        </p:blipFill>
        <p:spPr>
          <a:xfrm>
            <a:off x="298440" y="1596960"/>
            <a:ext cx="83948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oup of conditions in which an inflammatory reaction in the skin is triggered by direct contact with environmental agen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rritant vs. allergic form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itant is the most common form; changes in the skin induced by caustic agents (i.e. acids, alkali, hydrocarbons, etc.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sh is usually occurs within minutes: well-demarcated erythema, blistering, edema, and/or crust form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ching/burning sens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rgic contact dermatitis is a Type IV delayed-hypersensitivity respon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ergic response is less severe and often delayed upon initial exposure, then more rapid and severe responses occur on subsequent exposure to the aller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st common allergic contact dermatitis in the US is poison ivy or rhus dermatiti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02" name="Text Placeholder 12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900520" cy="3100320"/>
          </a:xfrm>
          <a:prstGeom prst="rect">
            <a:avLst/>
          </a:prstGeom>
          <a:ln w="0">
            <a:noFill/>
          </a:ln>
        </p:spPr>
      </p:pic>
      <p:pic>
        <p:nvPicPr>
          <p:cNvPr id="303" name="Text Placeholder 12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854440" cy="3352680"/>
          </a:xfrm>
          <a:prstGeom prst="rect">
            <a:avLst/>
          </a:prstGeom>
          <a:ln w="0">
            <a:noFill/>
          </a:ln>
        </p:spPr>
      </p:pic>
      <p:pic>
        <p:nvPicPr>
          <p:cNvPr id="304" name="Text Placeholder 12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oision ivy, oak, and sumac dermatitis causes a rash consisting of linear streaks of erythematous papules and vesic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en involved in more sensitive areas such as the face or genitals, impressive swelling can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orough washing within minutes of exposure may prevent or reduce the eruption, barrier creams (Ivy Guard) applied before exposure may provide some protecti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ther common contact allergens include nickel, rubber, latex, glues, dyes, neomycin, and topical anesthetic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hotosensitizers are allergens that require sunlight to become activiated and cause a photocontact dermatitis when the patient is exposed to sunlight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rash erupts in a symmetric distribution on the face, th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“V”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of the neck, and the arms below the shirt slee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pical photosensitizers produce localized patches of dermatitis when applied to sun-exposed ar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d reaction: severe local reaction in a contact dermatitis induces an immunologically mediated secondary eczematous dermatit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mall areas of contact dermatitis: topical corticosteroids and avoiding further contact with the inciting agen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idespread reactions or severe local reactions in the face/genital/hands: 2-3 week tapering course of systemic corticosteroid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orter course may cause the rash to reboun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respond within 48 hou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2" name="Text Placeholder 1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308480" cy="3673440"/>
          </a:xfrm>
          <a:prstGeom prst="rect">
            <a:avLst/>
          </a:prstGeom>
          <a:ln w="0">
            <a:noFill/>
          </a:ln>
        </p:spPr>
      </p:pic>
      <p:pic>
        <p:nvPicPr>
          <p:cNvPr id="313" name="Text Placeholder 12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d by symmetric, red, scaling eruption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predominantly on hair-bearing and intertriginous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fants, scalp lesions called “cradle cap” are greasy, salmon-colored, scaly; severe form is more generaliz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olescents, the dermatitis manifests as dandruff or flaking of the eyebrows, postauricular areas, nasolabial folds, and/or flexural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genesis is unknow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n-pruritic, some clear spon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7" name="Text Placeholder 1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07080" cy="4800600"/>
          </a:xfrm>
          <a:prstGeom prst="rect">
            <a:avLst/>
          </a:prstGeom>
          <a:ln w="0">
            <a:noFill/>
          </a:ln>
        </p:spPr>
      </p:pic>
      <p:pic>
        <p:nvPicPr>
          <p:cNvPr id="318" name="Text Placeholder 12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83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w potency topical corticosteroid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ti-seborrheic shampoo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ary bacterial infection usually caused by GAS and/or S. aureu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ccurs commonly in the neck, axillary, and groin creases of infan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hould be cultured and treated with antibiotic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an differentiate from atopic dermatitis by asking about severity of pruritis and checking diaper are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hick white scales, or persistent diaper dermatitis and cradle cap, may be difficult to differentiate from psoriasis without a skin biops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What is normal hair los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hair loss averages 75 to 100 hairs per day. 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 loss is clinically apparent when a person has lost 25%-50% of hair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 Placeholder 12" descr=""/>
          <p:cNvPicPr/>
          <p:nvPr/>
        </p:nvPicPr>
        <p:blipFill>
          <a:blip r:embed="rId1"/>
          <a:stretch/>
        </p:blipFill>
        <p:spPr>
          <a:xfrm>
            <a:off x="612720" y="228600"/>
            <a:ext cx="3959280" cy="6172200"/>
          </a:xfrm>
          <a:prstGeom prst="rect">
            <a:avLst/>
          </a:prstGeom>
          <a:ln w="0">
            <a:noFill/>
          </a:ln>
        </p:spPr>
      </p:pic>
      <p:pic>
        <p:nvPicPr>
          <p:cNvPr id="322" name="Text Placeholder 12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00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quired disorder of pigmentation in which there is </a:t>
            </a:r>
            <a:r>
              <a:rPr b="1" lang="en-US" sz="2300" spc="-1" strike="noStrike">
                <a:solidFill>
                  <a:srgbClr val="000000"/>
                </a:solidFill>
                <a:latin typeface="Times New Roman Bold"/>
              </a:rPr>
              <a:t>comple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loss of pigment in involved area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are macular and appear progressively around the eyes, mouth, genitals, elbows, hands, and fe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pontaneous but slow repigmentation may occur from the edges of active lesions and the hair follicles within, which can give a speckled appear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ient hyperpigmentation of the contiguous normal skin or hypopigmentation of the advancing edge may produce a trichr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rely, the pigment in the eye may become involv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logically, melanocytes are completely absent in areas of vitilig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lanocytes are destroyed by an autoimmune mechanis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tect skin from sun damag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D application of medium to high potency topical corticosteroids x 2-4 week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ight therapy with PUVA or narrow band UVB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emporary camouflage with cosmetics and topical dyes may help hid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ell defined edges of vitiligo differentiates it from postinflammatory hypopigmentation and pityriasis alba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ack of scaling in vitiligo differentiates it from tinea versicolo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y woods lamp, a blue-white sharply demarcated fluorescence is seen from th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28" name="Text Placeholder 12" descr=""/>
          <p:cNvPicPr/>
          <p:nvPr/>
        </p:nvPicPr>
        <p:blipFill>
          <a:blip r:embed="rId1"/>
          <a:stretch/>
        </p:blipFill>
        <p:spPr>
          <a:xfrm>
            <a:off x="612720" y="304920"/>
            <a:ext cx="4000680" cy="3481200"/>
          </a:xfrm>
          <a:prstGeom prst="rect">
            <a:avLst/>
          </a:prstGeom>
          <a:ln w="0">
            <a:noFill/>
          </a:ln>
        </p:spPr>
      </p:pic>
      <p:pic>
        <p:nvPicPr>
          <p:cNvPr id="329" name="Text Placeholder 12" descr=""/>
          <p:cNvPicPr/>
          <p:nvPr/>
        </p:nvPicPr>
        <p:blipFill>
          <a:blip r:embed="rId2"/>
          <a:stretch/>
        </p:blipFill>
        <p:spPr>
          <a:xfrm>
            <a:off x="4765680" y="304920"/>
            <a:ext cx="4000320" cy="3481200"/>
          </a:xfrm>
          <a:prstGeom prst="rect">
            <a:avLst/>
          </a:prstGeom>
          <a:ln w="0">
            <a:noFill/>
          </a:ln>
        </p:spPr>
      </p:pic>
      <p:pic>
        <p:nvPicPr>
          <p:cNvPr id="330" name="Text Placeholder 12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36687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04920" y="1523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y multiple, small, oval, scaly patches that measure 1-3cm in dia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located in raindrop pattern on upper chest, back, and proximal portions of the upper extremities, facial lesions seen occasional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ions my be light tan, reddish, or white in col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symptomatic but may cause some mild prurit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more often in adolescents, but can affect children of any 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the yeast, Malassezia furfur, which commonly colonizes the skin by 4-6 mon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 and moist climates, pregnancy, immunodeficiency states, and genetic factors predispose to the development of these les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5867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x confirmed by KOH prep of surface scale or fungal cultur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 woods lamp, a yellow-green fluorescence is seen from the les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ical clotrimazole BID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quamating agents such as selenium sulfide x 15min daily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recalcitrant cases: try oral ketoconazole, itraconazole, or fluconazo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ducate patient and family that there is a high rate of recurrence and pigmentary changes may take months to clear, even after eradication of the fungu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n try selsun blue shampoo once a month to scalp and trunk to decrease recurre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5" name="Text Placeholder 1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51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ext Placeholder 1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6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btle and poorly demarcated areas of hypopigmentation in the face, neck, and upper extremitie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may progress through 3 stages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Erythematous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Hypocromic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Smooth hypochromic patch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occurs in atopic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asymptomatic except for mild pruritus during stages 1&amp;2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ccurs in people of all races, more prevalent in ma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re noticeable in summer months when rest of skin tans, and in darker skinned individu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-pigmentation occurs slowly, cases can last from several months to 10 years, but the average duration is a year or mor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patient and family on sun protection and gentle skin care to prevent dry sk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e cas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eat with topical cortico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ral to derm for light therapy to help accelerate repigment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other causes of hypopigmentation by taking a good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tinea versicolor by KOH prep of scrapings from skin lesions or fungal cul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woods lamp, a white-blue fluorescence may be seen like vitiligo, but not as bright and the borders are not as well defin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ext Placeholder 1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5600" cy="4800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3" name="Text Placeholder 12" descr=""/>
          <p:cNvPicPr/>
          <p:nvPr/>
        </p:nvPicPr>
        <p:blipFill>
          <a:blip r:embed="rId2"/>
          <a:stretch/>
        </p:blipFill>
        <p:spPr>
          <a:xfrm>
            <a:off x="4343400" y="1474920"/>
            <a:ext cx="45720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Arial"/>
              </a:rPr>
              <a:t>Evaluation of Alopecia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91960" y="749160"/>
            <a:ext cx="85172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Rose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nign, self limited disord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ccur at any age, but most common in school-age children and adolescen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rome of malaise, headache, and mild constitutional symptoms occasionally precedes the ras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/2 of the cases begin with the appearance of a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ld patch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1-2 weeks, numerous smaller round to oval patches appear on the body, usually concentrated on the trunk and proximal extremities, forms a “Christmas tree” pattern on the back and thora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sh peaks in several weeks and slowly fades over 6-12 wee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unknown, viral etiology?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V light and oral erythromycin may hasten the disappearance of the eruption, but post-inflammatory hyperpigmentation may persist for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7" name="Text Placeholder 1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57720" cy="4343400"/>
          </a:xfrm>
          <a:prstGeom prst="rect">
            <a:avLst/>
          </a:prstGeom>
          <a:ln w="0">
            <a:noFill/>
          </a:ln>
        </p:spPr>
      </p:pic>
      <p:pic>
        <p:nvPicPr>
          <p:cNvPr id="348" name="Text Placeholder 12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081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80880" y="22860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used by the Sarcoptes scabiei m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uritic rash characterized by linear burrows, papules, nodules on the finger webs, wrists, elbows, feet, ankles, belt lines, areola, scrotum, and pen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 infants, burrows are widespread on the trunk, scalp, extremities, including the palms and so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-304920" y="15235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methrin 5% cream can be used safely for children as young as 2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ad to toe x 8-14 hrs, rinse off, rand epeat in 7 d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ient, entire family, and other who have had close contact to the patient should be treated simultaneousl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ical lubricants are necessary to counteract the drying and irritation produced by the scabici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l or topical medications to prevent prurit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sh all clothing, sheets, towels, or place in sealed bag x 1 week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ucate family that pruritus can last for 2-4 weeks after treatment, but if see new lesions on skin that suggests reinfestation or inadequate therap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Text Placeholder 1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559040" cy="3419640"/>
          </a:xfrm>
          <a:prstGeom prst="rect">
            <a:avLst/>
          </a:prstGeom>
          <a:ln w="0">
            <a:noFill/>
          </a:ln>
        </p:spPr>
      </p:pic>
      <p:pic>
        <p:nvPicPr>
          <p:cNvPr id="355" name="Text Placeholder 1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4718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used by poxvir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emic in young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gious by direct contact or indirect contact through fom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racterized by sharply circumscribed, single or multiple, superficial pearly, dome shaped, papules with umbilicated cent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only distributed in the trunk, axillae, face, and diaper are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sions are spread by scratching and frequently appear in a linear arrang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eens, molluscum occurs frequently in the genital area as a sexually transmitted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st cases undergo spontaneous remission, but recurrences are comm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atment directed against symptomatic lesions onl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 nitro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a blistering agent (cantharidin) and plastic tape, peeled off in 1-3 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on of lesions by curetting their c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tients with widespread, recalcitrant molluscum should be screened for congenital and acquired immunodeficienc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6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telli, B.J; Davis, H.W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las of Pediatric Diag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th Edition, 2002, p307-312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rtz, M.W. et al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nical Handbook of Pedia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2003, p115-120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Non-scarring Hair los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Alopecia Areat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n, B.A.  Pediatric Dermatology. 3rd Edition, 2005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Keratosis Pilari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1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2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ityriasis Alb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5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x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ytotoxic agents, radiation, anticonvulsants, hypervitaminosis A, anticoagula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pla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istiocytosi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um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richotillomania, traction alopecia, friction alope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inea capitis, secondary syphili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n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plasia cutis congenita, nevus sebaceous, epidermal nevus, hemangioma, loose anagen syndrome, ectodermal dysplasia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shaft defec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or Genetic Ca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drogenic alopecia, acrodermatitis enteropathica, anorexia nervosa, malnutrition, thyroid disease, hypopituitarism, D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Content Placeholder 6" descr="Alopecia_in_secondary_syphi.jpg"/>
          <p:cNvPicPr/>
          <p:nvPr/>
        </p:nvPicPr>
        <p:blipFill>
          <a:blip r:embed="rId1"/>
          <a:stretch/>
        </p:blipFill>
        <p:spPr>
          <a:xfrm>
            <a:off x="5410080" y="312408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5105520" y="15238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lopecia areata, SLE, scleroderm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topic dermatitis, seborrheic dermatitis, psoriasis, telogen effluvium, anagen effluviu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he Alopeci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24379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opecia Caused by Systemic Insult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pecia Are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uma-Induced Alopecia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orrhexis Nodo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chotilloman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2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lasia Cutis Congeni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inea Capit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n-Scarring</a:t>
            </a: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elogen Effluvi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common cause of diffuse hair los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, temporary alopecia that is seen a few months after a severe illness, major surgery, or high fe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itial systemic insult induces more than the usual 20% of hairs to enter the telogen phase, and 3 months later these hairs are shed simultaneousl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taneously resolves over several month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5" name="Content Placeholder 8" descr="05.jpg"/>
          <p:cNvPicPr/>
          <p:nvPr/>
        </p:nvPicPr>
        <p:blipFill>
          <a:blip r:embed="rId1"/>
          <a:stretch/>
        </p:blipFill>
        <p:spPr>
          <a:xfrm>
            <a:off x="4876920" y="2743200"/>
            <a:ext cx="3962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0:23:00Z</dcterms:created>
  <dc:creator>Valued Acer Customer</dc:creator>
  <dc:description/>
  <dc:language>en-US</dc:language>
  <cp:lastModifiedBy>cinnie chou</cp:lastModifiedBy>
  <dcterms:modified xsi:type="dcterms:W3CDTF">2010-10-05T17:03:58Z</dcterms:modified>
  <cp:revision>66</cp:revision>
  <dc:subject/>
  <dc:title>Hair Raising Facts on Alopecia</dc:title>
</cp:coreProperties>
</file>